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890-A2A3-4ECB-ABFD-C2B8DF08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478-A511-4D97-8683-9F4C95C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AEB-EB83-429C-B670-30EA7242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EBF-F203-4A9E-B379-4B80FBEA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A16-6BDD-4208-A3AE-ABE12EF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F81-3397-49AD-A4E6-D948E22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7F6-91B9-400B-B6DD-78CC510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281-0E31-4695-8188-5D26482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7AC-2526-4A58-92A6-1333EB3F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049-8557-4BC5-8C31-949A70D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B4A-2915-4A80-B888-6B2082B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0D7-5E2E-43D2-BF4C-80242F1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19FF-3208-4512-9D73-8A13D043B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4136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Arial"/>
              </a:rPr>
              <a:t>Инструктив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к практической работе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«Получение и свойства кисло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44280"/>
          <a:ext cx="9180360" cy="6786720"/>
        </p:xfrm>
        <a:graphic>
          <a:graphicData uri="http://schemas.openxmlformats.org/drawingml/2006/table">
            <a:tbl>
              <a:tblPr/>
              <a:tblGrid>
                <a:gridCol w="3038400"/>
                <a:gridCol w="2370240"/>
                <a:gridCol w="2220840"/>
                <a:gridCol w="1550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делал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ями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ка прибора д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кислор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прибора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етичност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KMnО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кислород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ние О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ву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ам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еснение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еснением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х свойств О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ение угл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Тушите спиртовку только колпачком (а). Запрещается зажигать одну спиртовку с помощью другой (б). Запрещается передавать спиртовку в зажженном виде (в). Запрещается пробовать вещество на вкус (г). Работу проводить только над столом (д)"/>
          <p:cNvPicPr/>
          <p:nvPr/>
        </p:nvPicPr>
        <p:blipFill>
          <a:blip r:embed="rId2"/>
          <a:stretch/>
        </p:blipFill>
        <p:spPr>
          <a:xfrm>
            <a:off x="179280" y="2060640"/>
            <a:ext cx="8742600" cy="309708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0" y="404640"/>
            <a:ext cx="426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В пробирку поместите перманганат калия (1г), вложите около ее отверстия рыхлый комочек ваты и закройте пробкой с газоотводной труб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Проверьте прибор на герметичность. Зажмите пробирку в ладони, опустите конец трубки в воду: появление пузырьков воздуха свидетельствует о герметичности при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456000" cy="2609640"/>
          </a:xfrm>
          <a:prstGeom prst="rect">
            <a:avLst/>
          </a:prstGeom>
          <a:ln w="31680">
            <a:solidFill>
              <a:srgbClr val="66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79280" y="620640"/>
            <a:ext cx="46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О получении кислор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Начав серьезный разгов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Нам очень важно бы прове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Чтоб герметичным был при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40000" y="404640"/>
            <a:ext cx="4679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Закрепите собранный прибор в лабораторном штативе в горизонтальном положении. Опустите конец газоотводной трубки в пустую проби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Нагрейте пробирку с перманганатом калия, соблюдая правила наг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Соберите кислород в пробирку способом вытеснения воздуха. Проверьте его наличие с помощью тлеющей лучинки и накройте пробирку стек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816360" cy="2939760"/>
          </a:xfrm>
          <a:prstGeom prst="rect">
            <a:avLst/>
          </a:prstGeom>
          <a:ln w="31680">
            <a:solidFill>
              <a:srgbClr val="6633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31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Уголек мы разжиг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Он горит, едва мерц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Знаем, почему сюрприз т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В этой колбочке пу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74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игельных щи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калите в пла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голек и внесит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акан с кислор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Что наблюд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3-3" descr="Рис. 4. Горение угля в кислороде"/>
          <p:cNvPicPr/>
          <p:nvPr/>
        </p:nvPicPr>
        <p:blipFill>
          <a:blip r:embed="rId2"/>
          <a:stretch/>
        </p:blipFill>
        <p:spPr>
          <a:xfrm>
            <a:off x="1042920" y="3213000"/>
            <a:ext cx="3100320" cy="2863800"/>
          </a:xfrm>
          <a:prstGeom prst="rect">
            <a:avLst/>
          </a:prstGeom>
          <a:ln w="31680">
            <a:solidFill>
              <a:srgbClr val="6633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76720" y="134100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оборудуйте прибор для собирания кислорода вытеснением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) наденьте на конец газоотводной трубки наконеч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) наполните пробирку для собирания газов водой, закройте пробкой с держате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4176720" cy="3173400"/>
          </a:xfrm>
          <a:prstGeom prst="rect">
            <a:avLst/>
          </a:prstGeom>
          <a:ln w="31680">
            <a:solidFill>
              <a:srgbClr val="66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24000" y="6206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Мы можем прибор пере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И вновь кислород полу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Собрав его над во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Monotype Corsiva"/>
              </a:rPr>
              <a:t>И свойства его подтвер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3673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) опустите пробир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стакан с вод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ньте проб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) подведите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азоотводной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 прибора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учения кислорода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бирке с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81440" cy="271296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4894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. Вновь нагрейте пробирку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манганатом калия и со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ислород способом вытес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. Закройте пробирку с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бкой с металл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ржателем, выньте из стакан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кажите, что эт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 Выньте газоотводную труб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 стакана с водой, не прекра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гревания пробирки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манганатом ка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Рис. 3. Прибор для получения кислорода и собирание его методом вытеснения воды"/>
          <p:cNvPicPr/>
          <p:nvPr/>
        </p:nvPicPr>
        <p:blipFill>
          <a:blip r:embed="rId2"/>
          <a:stretch/>
        </p:blipFill>
        <p:spPr>
          <a:xfrm>
            <a:off x="5508720" y="2133720"/>
            <a:ext cx="3240000" cy="2262240"/>
          </a:xfrm>
          <a:prstGeom prst="rect">
            <a:avLst/>
          </a:prstGeom>
          <a:ln w="25560">
            <a:solidFill>
              <a:srgbClr val="66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557360"/>
            <a:ext cx="8064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Закончил работу успеш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Не забудь со стола все убр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Затем и к отчету, конеч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Monotype Corsiva"/>
              </a:rPr>
              <a:t>Ты можешь уже приступ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24:39Z</dcterms:created>
  <dc:creator>User</dc:creator>
  <dc:description/>
  <dc:language>en-US</dc:language>
  <cp:lastModifiedBy>User</cp:lastModifiedBy>
  <dcterms:modified xsi:type="dcterms:W3CDTF">2009-08-16T05:34:11Z</dcterms:modified>
  <cp:revision>5</cp:revision>
  <dc:subject/>
  <dc:title>Слайд 1</dc:title>
</cp:coreProperties>
</file>